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98F-2351-45B6-9595-9CF3FE9E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EF0-0957-46DC-9EC8-69970BDA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0557D-D689-4A17-9A1F-ADF27676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CC9E3-F1E9-4510-A567-FB9C224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BF754-E78E-448A-B358-C1A74036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78C9F-D5B0-47F8-A681-ADE9E84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56D3-60EC-4E4F-AD9A-F7CDB33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87603-601E-44AD-9CBA-260794F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B5E1B-AD12-4B39-8FF9-AA59488B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74FE-05A2-4F17-B0F9-F88B3B94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4A1F5-CAF8-44B5-A399-804FBFAB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4FACB-1329-4C7A-A426-D126D3C3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32A-5056-4D67-9E61-D8597EAF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D59D0-3939-427F-983C-1A528299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A3890-332D-4286-8001-F120C146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EDD8C-0F86-44FB-8896-65632176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C4953-B722-4077-8B6D-F1229787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0CB65-17D7-4077-B4B4-8CE724C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C7FAB-D296-457E-B232-B5EE67A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01306-FD3F-4F8A-A7D5-777186B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B93A5-5D27-49BD-A793-A656100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0CFD1-E60A-43F4-A9FA-C0592C3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40DD3-B82B-4221-B738-C8807DA1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D05-DF2F-458D-B89A-94F3137E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A4231-C776-41AC-BB03-EA8B4768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0E03D-4ED6-44DD-8EA9-CB93D742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B2C81-F0FC-48AB-AEEA-37D0D5CF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E53C1-92A7-47BD-B2C1-8CA9275B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D61E8-6AF5-405F-8C2B-7DBC730B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9A6C-334E-49D2-819E-C8635B16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8A5C9-02C9-40B6-BF55-02C05BED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B0589-40D3-46C2-BA98-2B4AA3BE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01793-641D-475A-BCB3-A572EA0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DC1AF-FDD2-439D-A214-07F64F1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2C61-3FA6-4B03-897F-CD6EC575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4DA0B-D240-4781-B6BE-7933BB75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97DD7-22DC-4C21-ACAE-2AC5B900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3FC1E-1407-4616-89C1-D8EA5576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43463-552F-46F1-A3B8-4CA21402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B32AC-CED1-47A9-95E7-98AD234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7546F-CFE3-4C6A-90D3-33040D0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64751-6430-4E6C-BB09-96757BD8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7FDDC-F506-48C6-B723-58745522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82558-462A-46CE-B0B3-CFF3E4A7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CD1B9-5B65-475D-A845-3643B31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6668-FFAA-4540-A128-4884407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3C3AA-2FC6-4EB4-8D75-6C4DE60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40A8C-F972-4C84-9786-4267D35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8CB26-3251-4248-9A0A-F0582A6B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AECC6-9AA9-4DFD-A94E-C17B6C22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0200F-3A30-49B0-94F5-9D33348D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06E-2ECC-4049-9C9E-0C836F30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E320-F0F5-4A31-9500-D65D37E0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F0AB-A041-4C79-8F77-09040D52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5D9-A74F-479C-BE5E-326809D6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E00B-A73B-4E2A-AD9A-4657799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BC6-08E7-4B70-8221-E7E0B9E2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3BD0-A776-41F0-BDBF-A84E57A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9ED3-2798-4CE4-B67C-BAE6329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2E9-D2A1-4E09-8556-9E764764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E4AC-381B-41E7-A7D8-8C2C1A19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CBF-C8E6-4AB7-9D66-61FA8BEE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558C-991E-4853-B094-1E8F3F20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E754-F25B-440F-96D1-A067B489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49E5-0DA2-4F87-8B3F-C3BC589E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7297-93B1-4BF5-9046-3D62B3C7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73F5-F207-42C5-9544-05115AE1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E65-6B0C-457F-A052-138670B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BEF8-241D-4C53-BBE3-DF4D7921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EAD0-F863-4D60-B378-FFC07EB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3FC6-C199-4241-8504-79065B9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8BE5-AF80-4203-8101-2D6E325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6521-2798-45B8-9628-575A25B3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9829-49C4-4644-90BA-D3AC7FF9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E701-C725-4255-AB9C-EB7A009B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0406-476C-4BF2-9715-A48EB7FE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0024-A922-4EB7-BAFA-2C55185E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37C0-EEA6-4C5C-AD08-15238DF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9DE-A155-44EB-8F36-700CA206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B463-C00A-485F-8B79-339B7FCF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A302-87F7-4899-A759-9C04C6AD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237A-775A-4A3E-9A00-28EC3B8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BA3B-6F0B-4608-B401-17A0AFB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0649-EF1E-4930-B3CA-8A1BDCEC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5108-D4B0-4742-903F-DC85A65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176E-06CB-4DDF-9FAE-5B03A347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ABCD-6A56-4CE7-A0E8-E41F8918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905A-F24C-4A2B-BAFD-4FE0018C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DD69-3F5F-4EA7-A449-26E78586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0F4-5917-4EB4-B100-FD91B5EF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B730-9D86-44D4-AFC6-777EFD71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69BE4-23DF-4B91-87EE-6F3DAF4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14C38-856E-4D3C-8A47-37516147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8D70B-750A-44F7-9014-FF656E93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5987B-F02C-41F9-BE38-785BE24B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8FEE-A43A-4E1E-A064-E5BA459C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AEA7-A873-4A77-8D37-41660AC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A144-C51F-4834-9F4D-C1439E3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9C06-FF77-4201-9CB7-B19FB2E0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6213B-F4CA-4A8F-9DB6-B57DA7B1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2BC-A18A-4385-AC07-167F3070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39EA-8956-47B6-8A60-F206BC4F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E48F-0027-4754-8683-3C3A3DA7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216C-A9AB-409A-8003-5D035E6A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7AEEA-D3F1-4D84-B742-A815053F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2612-1E1E-4607-9337-DB7F02E7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374E-709E-4961-85B9-D9EAE293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347C-0CBD-4468-9A3A-FC4FD4C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10DB2-8025-4B43-A2C6-DC453B6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89CC-1C0F-4117-8797-30D3B25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8A8B-B436-4576-943C-A01BDFC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700-50C6-4110-989D-002B724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69A2-635E-41BB-8C7F-71EA028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7FA86-0D20-480C-A100-3DC9B78E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95E7-F855-4292-95F2-87DC2BA5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A01C0-E865-482B-97AB-9E8EA547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4A5A6-EE07-42A0-A36C-184BC4B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7FA7-8735-49E4-BDDF-64B04301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5BAE-900A-4617-8EB1-1893DEFA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C68F-D360-4C03-BDD0-AC7D8026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45F68-6549-4ECE-AF89-4861E2A9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19B50-4ED1-498E-815E-D72DF585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07E-7D51-4E37-BC6F-2385266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E699-FE27-4121-A207-4857182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F4323-74E2-43A9-82CF-5C2338F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19EA-86AD-4C01-8FF4-1125229E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03817-7FB2-4ACE-9835-7387E2A6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A8C7-A1AC-488F-AFA0-33EB02B8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D91E2-8453-48AE-A6C9-E7B6AB6C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CE0AF-DB40-41CF-A0DC-98A5941E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B737-6AE7-4677-AD62-D6F589EA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3AB6-C6DE-43DF-A549-ACC374F3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5F7AC-6DDF-44C7-9F8C-6EDC0447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274-2013-4D74-B123-EF083034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18765-C465-4CE3-8C70-0C6BC81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FA151-3960-46B1-BEF8-007783F7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9600A-7573-4D67-89C1-84EECEA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77A94-4850-4495-91CE-701B2A1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69D59-F3B8-4CF3-B483-12BD657A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D8CB-FD52-42E2-93F2-51FE80B0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6F134-5202-40B2-B8CA-B3AB135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D354A-21A9-4156-8CD7-C0EA32B9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CD1AF-9446-4513-B005-67355098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01E46-BB20-4CCF-A6F8-F8918DAF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9248-78DA-4D28-8E07-BA2760CBC6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F3A-55FD-4A7F-BA4C-03F8414436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4D88-908D-4341-96B9-CF85FAAA0D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CB2-A0B0-435C-9AFC-8F697F54F6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6B2C-BC14-4FF4-8433-54F9DA019B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DDA-17C6-49E5-B663-BB10236FCE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D521-EDDA-4A1F-BEFC-3B7362D06D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F18F-F0B0-4341-8F85-C744CB5214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CB3B-93CC-4303-9C94-6D9794F161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110F-8DA2-4401-A280-3F63821E24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75F7-ED03-4E8B-8C85-466E7CE31A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C0A7-D3AA-42B9-A1D7-1DA65623B1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4 Deň v službe Spas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ožehnaný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i ju cení a sám od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sláve príde ra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vďačný sluh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zácna prednosť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zácna prednosť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ť radostnú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spasení niesť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výzva Božia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službu sám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žehná nebies Pán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skúškou vernosti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príklad sám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yna poslal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na svet z milost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erný je a verný zo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v Božej lásky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slúžiť verne a neochvej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láska z neba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u aj náš Pán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erne slúži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6:06:31Z</dcterms:modified>
  <cp:revision>49</cp:revision>
  <dc:subject/>
  <dc:title>Je veľký náš Pán, on slávy je Kráľ Nech do všetkých strán  spev vrúcnych znie chvál.</dc:title>
</cp:coreProperties>
</file>